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0C1A-533D-432C-8337-70F0F298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4559-610B-4918-A32D-004458E6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755C-EF49-4A54-95FD-602403BB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8C95-D68D-4341-93AE-0502AC1B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7F7B-E684-4245-B6E9-4C2A6181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2C3E-B98B-4AC9-A0D1-CD9FE266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6B8B-D959-4423-9E6D-043607F6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0562-993C-4171-8EE2-C73EAE2B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2926-A792-4207-99C1-C711E960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7A3D-5616-4B65-A6FF-AC82E93B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ED72-1C6D-4C0B-861A-9D107545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0E90-0ABC-472F-9EB2-4C2F28C6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FEDE-880B-4496-9EFB-49FC7038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40E5-2927-4920-95E4-4BB69316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098A-2DE7-4E51-893E-69A8737B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8002-5DE7-4268-B3FD-2DB3998E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276A-7754-485D-A6B3-EEB3E074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043B-E50B-4DB6-9A7C-B9629ECC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B0FC-4F15-44E0-9A20-B7E64EFF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AF69-8F72-4658-AF33-1FC39F1F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4682-E439-4DB2-9854-2E57CF89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CFB9-F7C9-4ECE-B688-9F22469D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9433-0477-4D32-99C3-B713A60E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DF87-8BED-44A5-844B-CD76C126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e7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e7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e7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e7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e7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e7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e7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a003d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001e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00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a003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1004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1004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b0031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2003a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a003d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a003d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a003d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a003d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a003d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a003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20034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a003d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a003d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61B7-C944-4D99-AAAE-367CC18222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b0031"/>
            </a:gs>
            <a:gs pos="100000">
              <a:srgbClr val="ff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e7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e7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e7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e7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e7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e7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e7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a003d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001e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00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a003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1004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1004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b0031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2003a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a003d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a003d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a003d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a003d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a003d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a003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20034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a003d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a003d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9004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0053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f0059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7005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80050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a003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a003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3002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3002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a003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a003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3002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003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a003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3002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003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a003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a003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a003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a003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003a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003a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003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b10046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004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7005c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30027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2AC4-3FF3-479C-84B1-A13D0B38F0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oc.gov/poetry/180/p180-list.html" TargetMode="External"/><Relationship Id="rId3" Type="http://schemas.openxmlformats.org/officeDocument/2006/relationships/hyperlink" Target="http://www.poets.org/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hyperlink" Target="http://www.lyricsondemand.com/" TargetMode="External"/><Relationship Id="rId7" Type="http://schemas.openxmlformats.org/officeDocument/2006/relationships/hyperlink" Target="http://www.songfacts.com/" TargetMode="External"/><Relationship Id="rId8" Type="http://schemas.openxmlformats.org/officeDocument/2006/relationships/hyperlink" Target="http://www.songfacts.com/" TargetMode="External"/><Relationship Id="rId9" Type="http://schemas.openxmlformats.org/officeDocument/2006/relationships/hyperlink" Target="http://www.songfacts.com/" TargetMode="External"/><Relationship Id="rId10" Type="http://schemas.openxmlformats.org/officeDocument/2006/relationships/hyperlink" Target="http://www.google.com/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276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ff"/>
                </a:solidFill>
                <a:latin typeface="Lucida Handwriting"/>
              </a:rPr>
              <a:t>Poetry </a:t>
            </a:r>
            <a:br>
              <a:rPr sz="11000"/>
            </a:br>
            <a:r>
              <a:rPr b="0" lang="en-US" sz="7000" spc="-1" strike="noStrike">
                <a:solidFill>
                  <a:srgbClr val="ffffff"/>
                </a:solidFill>
                <a:latin typeface="Lucida Handwriting"/>
              </a:rPr>
              <a:t>and </a:t>
            </a:r>
            <a:br>
              <a:rPr sz="11000"/>
            </a:br>
            <a:r>
              <a:rPr b="0" lang="en-US" sz="11000" spc="-1" strike="noStrike">
                <a:solidFill>
                  <a:srgbClr val="ffffff"/>
                </a:solidFill>
                <a:latin typeface="Lucida Handwriting"/>
              </a:rPr>
              <a:t>Music</a:t>
            </a:r>
            <a:endParaRPr b="0" lang="en-US" sz="1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533160" y="4952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entury Schoolbook"/>
              </a:rPr>
              <a:t>Comparison Projec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3581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Goudy Old Style"/>
              </a:rPr>
              <a:t>“</a:t>
            </a:r>
            <a:r>
              <a:rPr b="1" lang="en-US" sz="3000" spc="-1" strike="noStrike">
                <a:solidFill>
                  <a:srgbClr val="ffffcc"/>
                </a:solidFill>
                <a:latin typeface="Goudy Old Style"/>
              </a:rPr>
              <a:t>The Hand”</a:t>
            </a:r>
            <a:br>
              <a:rPr sz="3000"/>
            </a:br>
            <a:r>
              <a:rPr b="1" lang="en-US" sz="3000" spc="-1" strike="noStrike">
                <a:solidFill>
                  <a:srgbClr val="ffffcc"/>
                </a:solidFill>
                <a:latin typeface="Goudy Old Style"/>
              </a:rPr>
              <a:t>Mary Ruefle -199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5943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Goudy Old Style"/>
              </a:rPr>
              <a:t>The teacher asks a question.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Goudy Old Style"/>
              </a:rPr>
              <a:t>You know the answer, you suspec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Goudy Old Style"/>
              </a:rPr>
              <a:t>you are the only one in the classroom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Goudy Old Style"/>
              </a:rPr>
              <a:t>who knows the answer, because the person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Goudy Old Style"/>
              </a:rPr>
              <a:t>in question is yourself, and on tha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Goudy Old Style"/>
              </a:rPr>
              <a:t>you are the greatest living authority,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Goudy Old Style"/>
              </a:rPr>
              <a:t>but you don’t raise your hand.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Goudy Old Style"/>
              </a:rPr>
              <a:t>You raise the top of your desk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Goudy Old Style"/>
              </a:rPr>
              <a:t>and take out an apple.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Goudy Old Style"/>
              </a:rPr>
              <a:t>You look out the window.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Goudy Old Style"/>
              </a:rPr>
              <a:t>You don’t raise your hand and there i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Goudy Old Style"/>
              </a:rPr>
              <a:t>some essential beauty in your fingers,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Goudy Old Style"/>
              </a:rPr>
              <a:t>which aren’t even drumming, but li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Goudy Old Style"/>
              </a:rPr>
              <a:t>flat and peaceful.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Goudy Old Style"/>
              </a:rPr>
              <a:t>The teacher repeats the question.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Goudy Old Style"/>
              </a:rPr>
              <a:t>Outside the window, on an overhanging branch,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Goudy Old Style"/>
              </a:rPr>
              <a:t>a robin is ruffling its feather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Goudy Old Style"/>
              </a:rPr>
              <a:t>and spring is in the air.</a:t>
            </a:r>
            <a:br>
              <a:rPr sz="2100"/>
            </a:b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-22860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Well, we got no choic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All the girls and boy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Makin' all that noi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Cause they found new toy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Well, we can't salute ya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Can't find a fla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If that don't suit ya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That's a dra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School's out for summ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School's out forev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School's been blown to piec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No more pencil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No more book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No more teacher's dirty look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Well, we got no clas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And we got no principal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And we got no innocenc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We can't even think of a word that rhym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No more pencil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No more book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No more teacher's dirty look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Out for summ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Out till fal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We might not come back at al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School's out forev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School's out for summ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School's out with fev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School's out completely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514600" y="228600"/>
            <a:ext cx="3657600" cy="10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Goudy Old Style"/>
              </a:rPr>
              <a:t>“</a:t>
            </a:r>
            <a:r>
              <a:rPr b="1" lang="en-US" sz="3000" spc="-1" strike="noStrike">
                <a:solidFill>
                  <a:srgbClr val="ffff99"/>
                </a:solidFill>
                <a:latin typeface="Goudy Old Style"/>
              </a:rPr>
              <a:t>School’s Out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Goudy Old Style"/>
              </a:rPr>
              <a:t>Alice Cooper - 197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90920" y="1519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Goudy Old Style"/>
              </a:rPr>
              <a:t>“</a:t>
            </a:r>
            <a:r>
              <a:rPr b="1" lang="en-US" sz="2000" spc="-1" strike="noStrike">
                <a:solidFill>
                  <a:srgbClr val="ffff99"/>
                </a:solidFill>
                <a:latin typeface="Goudy Old Style"/>
              </a:rPr>
              <a:t>Hate Poem”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Goudy Old Style"/>
              </a:rPr>
              <a:t>Julie Sheehan - 2005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600200" y="91404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I hate you truly. Truly I d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Everything about me hates everything about you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The flick of my wrist hates you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The way I hold my pencil hates you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The sound made by my tiniest bones were they trappe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     in the jaws of a moray eel hates you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Each corpuscle singing in its capillary hates yo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Look out! Fore! I hate yo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The blue-green jewel of sock lint I’m digging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     from under by third toenail, left foot, hates you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The history of this keychain hates you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My sigh in the background as you explain relational databas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     hates you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The goldfish of my genius hates you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My aorta hates you. Also my ancestor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A closed window is both a closed window and an obviou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     symbol of how I hate yo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My voice curt as a hairshirt: hat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My hesitation when you invite me for a drive: hat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My pleasant “good morning”: hat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You know how when I’m sleepy I nuzzle my head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     under your arm? Hat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The whites of my target-eyes articulate hate. My wi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     practices i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My breasts relaxing in their holster from morning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     to night hate you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Layers of hate, a parfai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Hours after our latest row, brandishing the sharp glee of hate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I dissect you cell by cell, so that I might hate each on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     individually and at leisur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My lungs, duplicitous twins, expand with the utter validit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     of my hate, which can never have enough of you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oudy Old Style"/>
              </a:rPr>
              <a:t>Breathlessly, like two idealists in a broken submarine</a:t>
            </a:r>
            <a:r>
              <a:rPr b="1" lang="en-US" sz="1400" spc="-1" strike="noStrike">
                <a:solidFill>
                  <a:srgbClr val="ffffff"/>
                </a:solidFill>
                <a:latin typeface="Goudy Old Style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46483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Every time we l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awak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After every hit we tak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Every feeling that I g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But I haven’t missed you y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Every roommate kept awak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By every sigh and scream we mak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All the feelings that I g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But I still don't miss you y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Only when I stop to think about i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I hate everything about yo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Why do I love yo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I hate everything about yo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Why do I love yo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Every time we lie awak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After every hit we tak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Every feeling that I g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But I haven’t missed you y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Only when I stop to think about i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I hate everything about yo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Why do I love yo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I hate everything about you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90920" y="228600"/>
            <a:ext cx="40384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Goudy Old Style"/>
              </a:rPr>
              <a:t>“</a:t>
            </a:r>
            <a:r>
              <a:rPr b="1" lang="en-US" sz="2000" spc="-1" strike="noStrike">
                <a:solidFill>
                  <a:srgbClr val="ffcc00"/>
                </a:solidFill>
                <a:latin typeface="Goudy Old Style"/>
              </a:rPr>
              <a:t>I Hate Everything About You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Goudy Old Style"/>
              </a:rPr>
              <a:t>Three Days Grace -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724280" y="106668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Why do I love yo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Only when I stop to think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About you, I know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Only when you stop to think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About me, do you know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I hate everything about yo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Why do I love yo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You hate everything about m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Why do you love m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I hat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You hat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I hat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You love m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I hate everything about yo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Why do I love you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00"/>
                </a:solidFill>
                <a:latin typeface="Goudy Old Style"/>
              </a:rPr>
              <a:t>“</a:t>
            </a:r>
            <a:r>
              <a:rPr b="1" lang="en-US" sz="3500" spc="-1" strike="noStrike">
                <a:solidFill>
                  <a:srgbClr val="ffcc00"/>
                </a:solidFill>
                <a:latin typeface="Goudy Old Style"/>
              </a:rPr>
              <a:t>To a Daughter Leaving Home”</a:t>
            </a:r>
            <a:br>
              <a:rPr sz="3500"/>
            </a:br>
            <a:r>
              <a:rPr b="1" lang="en-US" sz="3500" spc="-1" strike="noStrike">
                <a:solidFill>
                  <a:srgbClr val="ffcc00"/>
                </a:solidFill>
                <a:latin typeface="Goudy Old Style"/>
              </a:rPr>
              <a:t>Linda Pastan - 198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When I taught yo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at eight to r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a bicycle, loping alo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beside yo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as you wobbled awa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on two round wheel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my own mouth round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in surprise when you pull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ahead down the curv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path of the par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I kept wai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for the thud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648320" y="1676520"/>
            <a:ext cx="44956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of your crash as 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sprinted to catch up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while you gre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smaller, more breakabl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with distance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pumping, pump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for your life, scream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with laughter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the hair flapp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behind you like 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handkerchief wav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goodby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She'll take the painting in the hallway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The one she did in jr. hig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And that old lamp up in the attic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She'll need some light to study by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She's had 18 years to get ready for this da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She should be past the tears, she cries some anyway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Oh oh letting g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There's nothing in the way now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Oh letting go, there's room enough to fl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And even though, she's spent her whole life waiting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It's never easy letting go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Mother sits down at the tabl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So many things she'd like to d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Spend more time out in the garde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Now she can get those books read too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She's had 18 years to get ready for this da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She should be past the tears, she cries some anyway…</a:t>
            </a:r>
            <a:br>
              <a:rPr sz="1600"/>
            </a:br>
            <a:br>
              <a:rPr sz="15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304920"/>
            <a:ext cx="914400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oudy Old Style"/>
              </a:rPr>
              <a:t>“</a:t>
            </a:r>
            <a:r>
              <a:rPr b="1" lang="en-US" sz="3200" spc="-1" strike="noStrike">
                <a:solidFill>
                  <a:srgbClr val="ffcc00"/>
                </a:solidFill>
                <a:latin typeface="Goudy Old Style"/>
              </a:rPr>
              <a:t>Letting 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oudy Old Style"/>
              </a:rPr>
              <a:t>Suzy Bogguss - 19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Questions fo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Poem/Song Compari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What things are similar in the poem and song?  Expl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How closely matched are the theme, symbols, and/or events?  Expla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What things are different?  Expl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Which one does a better job of expressing the content, theme, symbol?  Expl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Which one (the poem or the song) do you enjoy more?  Expl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What can you conclude about the difference/similarity of the time period of your pairing?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Questions for Your Po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If you were going to put the poem to music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Who would you have perform it? 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What instruments would be involved in the so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Explain the sound of the mus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If you were going to make a video for the poem, what would you put in it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ke a flow map for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ke at least 4 sequence of events to show how you would portray the poem in a vi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1" lang="en-US" sz="4500" spc="-1" strike="noStrike">
                <a:solidFill>
                  <a:srgbClr val="ffffff"/>
                </a:solidFill>
                <a:latin typeface="Georgia"/>
              </a:rPr>
              <a:t>A Wagner Matinee”</a:t>
            </a: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(short stor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86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y Willa Cather on page 6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anger’s music has influenced a couple of songs you will recogniz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Wedding Mar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Star War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mu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Questions to 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Why does the opera have such a powerful effect on Aunt Georgia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Write a journal entry for Aunt Georgiana  when she returns home that even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ow does Aunt Georgiana react when the concert ends?  Have you experienced anything like tha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unt Georgiana gave up her greatest joy – music – to marry the man she loved.  Did she make the right decis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Lucida Handwriting"/>
              </a:rPr>
              <a:t>Poe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lect a poem from either of these websi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Century Schoolbook"/>
                <a:hlinkClick r:id="rId2"/>
              </a:rPr>
              <a:t>http://www.loc.gov/poetry/180/p180-list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Century Schoolbook"/>
                <a:hlinkClick r:id="rId3"/>
              </a:rPr>
              <a:t>http://www.poets.org/</a:t>
            </a: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opy the po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nclude the poet’s na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nclude the year the poem was publish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Lucida Handwriting"/>
              </a:rPr>
              <a:t>So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By research or your own knowledge, match the poem with a song that has similar content, related event, shared symbol or theme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opy the song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Include the song’s writer and/or perform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Include the year the song was relea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You may want to use the following websites to help yo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Century Schoolbook"/>
                <a:hlinkClick r:id="rId6"/>
              </a:rPr>
              <a:t>www.lyricsondemand.com</a:t>
            </a: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 (helpful lyric si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Century Schoolbook"/>
                <a:hlinkClick r:id="rId7"/>
              </a:rPr>
              <a:t>http://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Century Schoolbook"/>
                <a:hlinkClick r:id="rId8"/>
              </a:rPr>
              <a:t>www.songfacts.com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Century Schoolbook"/>
                <a:hlinkClick r:id="rId9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 (gives you some information about the song and its backgroun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Century Schoolbook"/>
                <a:hlinkClick r:id="rId10"/>
              </a:rPr>
              <a:t>www.google.com</a:t>
            </a: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 (search musicians that you like and look at either their website or fan websites for song interpretation and fact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eorgia"/>
              </a:rPr>
              <a:t>Maya Angelou</a:t>
            </a:r>
            <a:br>
              <a:rPr sz="4500"/>
            </a:br>
            <a:r>
              <a:rPr b="1" lang="en-US" sz="3300" spc="-1" strike="noStrike">
                <a:solidFill>
                  <a:srgbClr val="ffffcc"/>
                </a:solidFill>
                <a:latin typeface="Georgia"/>
              </a:rPr>
              <a:t>“Still I Rise”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43040" y="20574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3520" y="1905120"/>
            <a:ext cx="3962160" cy="47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You may write me down in histor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your bitter, twisted lies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You may trod me in the very dir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ut still, like dust, I'll rise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Does my sassiness upset you?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hy are you beset with gloom?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'Cause I walk like I've got oil well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umping in my living room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Just like moons and like suns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certainty of tides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Just like hopes springing high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till I'll rise. </a:t>
            </a: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95680" y="1905120"/>
            <a:ext cx="413064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Did you want to see me broken?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owed head and lowered eyes?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houlders falling down like teardrops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eakened by my soulful cries?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Does my haughtiness offend you?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Don't you take it awful har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'Cause I laugh like I've got gold mine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Diggin' in my own backya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You may shoot me with your words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You may cut me with your eyes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You may kill me with your hatefulness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ut still, like air, I'll rise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eorgia"/>
              </a:rPr>
              <a:t>Maya Angelou</a:t>
            </a:r>
            <a:br>
              <a:rPr sz="4500"/>
            </a:br>
            <a:r>
              <a:rPr b="1" lang="en-US" sz="3300" spc="-1" strike="noStrike">
                <a:solidFill>
                  <a:srgbClr val="ffffcc"/>
                </a:solidFill>
                <a:latin typeface="Georgia"/>
              </a:rPr>
              <a:t>“Still I Rise”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343040" y="20574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0880" y="1905120"/>
            <a:ext cx="396252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Does my sexiness upset you?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Does it come as a surpris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I dance like I've got diamond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t the meeting of my thighs?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Out of the huts of history's sham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ris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Up from a past that's rooted in pai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ris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'm a black ocean, leaping and wid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elling and swelling I bear in the tide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br>
              <a:rPr sz="2000"/>
            </a:br>
            <a:br>
              <a:rPr sz="14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419720" y="1981080"/>
            <a:ext cx="42670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aving behind nights of terror and fea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ris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to a daybreak that's wondrously clea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ris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ringing the gifts that my ancestors gav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the dream and the hope of the slave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ris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ris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rise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eorgia"/>
              </a:rPr>
              <a:t>Lauryn Hill</a:t>
            </a:r>
            <a:br>
              <a:rPr sz="4500"/>
            </a:br>
            <a:r>
              <a:rPr b="1" lang="en-US" sz="3000" spc="-1" strike="noStrike">
                <a:solidFill>
                  <a:srgbClr val="ffffcc"/>
                </a:solidFill>
                <a:latin typeface="Georgia"/>
              </a:rPr>
              <a:t>“The Miseducation of Lauryn Hill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world it moves so fast toda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ast it seems so far awa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I squeeze it so tight, I can't breath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every time I try to b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someone has thought of m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 caught up, I wasn't able to achiev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deep in my heart the answer it was in m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I made up my mind to find my own destin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look at my environmen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wonder where the fire went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54080" y="20574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ed to everything we used to b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hear so many cry for hel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arching outside of themselve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I know His strength is within m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deep in my heart the answer it was in m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I made up my mind to find my own destin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deep in my heart the answer it was in m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I made up my mind to find my own destiny”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99"/>
                </a:solidFill>
                <a:latin typeface="Georgia"/>
              </a:rPr>
              <a:t>Maya Angelou</a:t>
            </a:r>
            <a:br>
              <a:rPr sz="4500"/>
            </a:br>
            <a:r>
              <a:rPr b="1" lang="en-US" sz="3300" spc="-1" strike="noStrike">
                <a:solidFill>
                  <a:srgbClr val="ffff99"/>
                </a:solidFill>
                <a:latin typeface="Georgia"/>
              </a:rPr>
              <a:t>“Take Time Out”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343040" y="20574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1846440"/>
            <a:ext cx="266688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hen you see th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on a freeway hitching rid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earing bead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ith packs by their sid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you ought to ask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hat's all th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arring and the jarr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killing an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he thrilling abou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ake Time Ou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hen you see hi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band around his hea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 army surplus bunk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hat makes his bed. You'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better ask What'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beating an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he cheating an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he bleeding an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he needing all abou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ake Time Out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1846440"/>
            <a:ext cx="297180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hen you see her walk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barefoot in the rai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and you know she's tripp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on a one-way trai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You need to ask what's all th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Lying and the dying an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he running and the gunn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All abou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ake Time Ou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Use a minut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Feel some sorrow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folks who think tomorrow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s a place that the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an call up on the phone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ake a mont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and show some kindnes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folk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ho thought that blindnes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as an illness tha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hat affected the eyes alone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248520" y="1828800"/>
            <a:ext cx="25905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f you know that yout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s dying on the the ru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And my daughter trad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Dope stories with your s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e'd better se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hat all ou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Fearing and ou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Jeering and ou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rying an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Our ly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Brought abou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ake Time Ou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99"/>
                </a:solidFill>
                <a:latin typeface="Georgia"/>
              </a:rPr>
              <a:t>TLC</a:t>
            </a:r>
            <a:br>
              <a:rPr sz="4500"/>
            </a:br>
            <a:r>
              <a:rPr b="1" lang="en-US" sz="4500" spc="-1" strike="noStrike">
                <a:solidFill>
                  <a:srgbClr val="ffff99"/>
                </a:solidFill>
                <a:latin typeface="Georgia"/>
              </a:rPr>
              <a:t>“Waterfalls”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lonely mother gazing out of her window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aring at a son that she just can't tou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f at any time he's in a ja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e'll be by his sid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t he doesn't realize he hurts her so mu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t all the praying just ain't help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t all 'cause he can't seem to keep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is self out of troubl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 he goes out and he makes his mone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best way he knows how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other body laying cold in the gutt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sten to m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orus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n't go chasing waterfall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sten to the rivers and the lakes tha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You're used to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 know that you're gonna have it your wa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r nothing at al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t I think you're moving too fas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54440" y="2057400"/>
            <a:ext cx="426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ttle precious has a natural obsessio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or temptation but he just can't se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he gives him loving that his body can't handl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ut all he can say is baby it's good to m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ne day he goes and takes a glimps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 the mirror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ut he doesn't recognize his own fac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is health is fading and he doesn't know wh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 letters took him to his final resting plac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Y'all don't hear me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on't go chasing waterfall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sten to the rivers and the lakes tha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You're used to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 know that you're gonna have it your wa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r nothing at all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ut I think you're moving too fast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99"/>
                </a:solidFill>
                <a:latin typeface="Georgia"/>
              </a:rPr>
              <a:t>TLC</a:t>
            </a:r>
            <a:br>
              <a:rPr sz="4500"/>
            </a:br>
            <a:r>
              <a:rPr b="1" lang="en-US" sz="4500" spc="-1" strike="noStrike">
                <a:solidFill>
                  <a:srgbClr val="ffff99"/>
                </a:solidFill>
                <a:latin typeface="Georgia"/>
              </a:rPr>
              <a:t>“Waterfalls”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 seen a rainbow yesterda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t too many storms have come and gon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avin' a trace of not one God-given ra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s it because my life is ten shades of gray I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ay all ten fade awa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ldom praise Him for the sunny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d like His promise is tru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nly my faith can undo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many chances I blew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 bring my life to anew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ear blue and unconditional ski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ave dried the tears from my ey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more lonely cri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y only bleedin' hop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s for the folk who can't cop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t such an endurin' pai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at it keeps 'em in the pourin' rai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o's to blam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r tootin' caine in your own vein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343040" y="20574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at a sham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You shoot and aim for someone else's brai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You claim the insan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d name this day and tim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r fallin' prey to crim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 say the system got you victim to your own mind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reams are hopeless aspirati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 hopes of comin' tru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lieve in yourself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rest is up to me and you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n't go chasing waterfall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sten to the rivers and the lakes tha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You're used to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 know that you're gonna have it your wa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r nothing at al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t I think you're moving too fast”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4:25:37Z</dcterms:created>
  <dc:creator>Kerry Jo Smith</dc:creator>
  <dc:description/>
  <dc:language>en-US</dc:language>
  <cp:lastModifiedBy>GISD</cp:lastModifiedBy>
  <dcterms:modified xsi:type="dcterms:W3CDTF">2008-04-02T14:05:52Z</dcterms:modified>
  <cp:revision>13</cp:revision>
  <dc:subject/>
  <dc:title>Poem and Music Comparison</dc:title>
</cp:coreProperties>
</file>